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998-4D6B-4FA9-BAC3-2AC94F0A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0DB-26B6-4D5B-A6A8-CA00A4A2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0B6-B3D4-411E-8649-60B66D41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E45-6C12-4B28-BA3C-5AC83D09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F1B-7642-4850-A928-A5A17A1C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E02-2BBB-4B68-90ED-B9ACF7EA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DD4-4202-4267-8435-6669CBA4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5EE-95AB-4776-B21C-3D5A6ED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781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F8B-6BD5-45E9-AD47-251C0EC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F4D-B6BB-425F-9F0E-C5DC23A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03E-E22E-4D97-86B3-C26AB79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4A5-786C-4A78-9DC8-E3CCE62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d5dff"/>
              </a:gs>
              <a:gs pos="100000">
                <a:srgbClr val="0409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Ma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dddddd"/>
                </a:solidFill>
                <a:latin typeface="Arial"/>
              </a:rPr>
              <a:t>BatteryMonitor Trim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9C2-8743-4D58-933A-76A99F4393A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57960" y="241200"/>
            <a:ext cx="1544760" cy="8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Trim Resistor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Used if current to voltage converter is outside +/- 5 % tolerance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Parallel resistor trims sense resistor to just under 2.5mOhms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95960" y="1933560"/>
            <a:ext cx="43891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960" y="3611520"/>
            <a:ext cx="4038480" cy="188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50F-150B-4807-A271-D2F56D236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6:02:54Z</dcterms:created>
  <dc:creator>PostHouse</dc:creator>
  <dc:description/>
  <dc:language>en-US</dc:language>
  <cp:lastModifiedBy>w.getchell</cp:lastModifiedBy>
  <cp:lastPrinted>2011-03-11T04:19:00Z</cp:lastPrinted>
  <dcterms:modified xsi:type="dcterms:W3CDTF">2011-03-24T21:32:11Z</dcterms:modified>
  <cp:revision>138</cp:revision>
  <dc:subject/>
  <dc:title>Slide 1</dc:title>
</cp:coreProperties>
</file>